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D5A-71D6-4F8A-924D-F046F888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4E0-F642-44C0-993C-C90D2620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3AE-5E28-4503-83B6-5F316F5A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4EE-D75A-4AB3-B252-7DDD6347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B46-EAF5-4913-919E-25E18D92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293-CCCF-42A7-A567-9B3E7BF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963-53EC-404F-AE7F-4B2E27C5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519-5573-4C4B-8627-BA7F9BA7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F54-B5CB-48D0-89D0-7BFA767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803-49E0-4F1D-88A2-A074E7D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699-2CA4-4F2A-ACE6-654F2B4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9E3-7C9D-4745-82E6-553E499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E634-A446-4EE6-8FA1-733749035A3B}" type="slidenum">
              <a:rPr b="0" lang="ar-Q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76320" y="82440"/>
            <a:ext cx="6629400" cy="24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 Sheet #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133720" y="430200"/>
            <a:ext cx="205740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8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ctivity 2</a:t>
            </a:r>
            <a:endParaRPr b="0" lang="en-US" sz="18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8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752480" y="92556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 Demi"/>
                <a:ea typeface="Aharoni"/>
              </a:rPr>
              <a:t>Understanding the 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23820752"/>
          <p:cNvPicPr/>
          <p:nvPr/>
        </p:nvPicPr>
        <p:blipFill>
          <a:blip r:embed="rId1"/>
          <a:stretch/>
        </p:blipFill>
        <p:spPr>
          <a:xfrm>
            <a:off x="290520" y="368280"/>
            <a:ext cx="1309680" cy="12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2"/>
          <a:srcRect l="0" t="4700" r="0" b="0"/>
          <a:stretch/>
        </p:blipFill>
        <p:spPr>
          <a:xfrm>
            <a:off x="0" y="1816200"/>
            <a:ext cx="6858000" cy="7842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2362320" y="526428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3200400" y="2476440"/>
            <a:ext cx="609480" cy="330120"/>
          </a:xfrm>
          <a:prstGeom prst="rightArrow">
            <a:avLst>
              <a:gd name="adj1" fmla="val 50000"/>
              <a:gd name="adj2" fmla="val 46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5867280" y="3467160"/>
            <a:ext cx="304920" cy="660240"/>
          </a:xfrm>
          <a:prstGeom prst="downArrow">
            <a:avLst>
              <a:gd name="adj1" fmla="val 50000"/>
              <a:gd name="adj2" fmla="val 541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5943600" y="7429680"/>
            <a:ext cx="304920" cy="660240"/>
          </a:xfrm>
          <a:prstGeom prst="downArrow">
            <a:avLst>
              <a:gd name="adj1" fmla="val 50000"/>
              <a:gd name="adj2" fmla="val 541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 flipH="1">
            <a:off x="3124080" y="8585280"/>
            <a:ext cx="609840" cy="330120"/>
          </a:xfrm>
          <a:prstGeom prst="rightArrow">
            <a:avLst>
              <a:gd name="adj1" fmla="val 50000"/>
              <a:gd name="adj2" fmla="val 46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"/>
          <p:cNvSpPr/>
          <p:nvPr/>
        </p:nvSpPr>
        <p:spPr>
          <a:xfrm flipV="1">
            <a:off x="685800" y="7346160"/>
            <a:ext cx="304920" cy="660600"/>
          </a:xfrm>
          <a:prstGeom prst="downArrow">
            <a:avLst>
              <a:gd name="adj1" fmla="val 50000"/>
              <a:gd name="adj2" fmla="val 54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-76320" y="22273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blem statement and formulation of a Research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657600" y="1981080"/>
            <a:ext cx="2895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vestigable hypothesis (best guess or  possible answer) to the Research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800600" y="5118120"/>
            <a:ext cx="2133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ological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4038480" y="833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457200" y="833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nalysis  and 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228600" y="47689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 and creation of new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9:36:14Z</dcterms:created>
  <dc:creator>Gene</dc:creator>
  <dc:description/>
  <dc:language>en-US</dc:language>
  <cp:lastModifiedBy>Gene</cp:lastModifiedBy>
  <dcterms:modified xsi:type="dcterms:W3CDTF">2008-01-19T09:37:13Z</dcterms:modified>
  <cp:revision>1</cp:revision>
  <dc:subject/>
  <dc:title>Slide 1</dc:title>
</cp:coreProperties>
</file>